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C0D-CA2F-434E-9B05-DB73E3DB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426-73DA-4295-A9A0-86767D05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129-CE25-42FF-ACB6-12C12CDE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19F-A778-407A-8B52-C004D72B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E849D-5E4A-43FA-9FA9-727BE321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61C6-E129-4BE5-BC18-65B9929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2EBF0-6C05-4214-8072-0BAC4743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51D8-D14F-4CFA-93C7-5F22131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C998C-A820-4D26-9C18-DD9715C1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FC715-0EFD-47EA-AC37-B1442149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EBD1-6598-4684-B276-6339E970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0A5-E5ED-4734-B872-2EE50B6E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38854-C0A8-4D42-B140-5AE1925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D1C66-E7C3-4613-8E13-8B448A6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FFFD4-76C9-4406-BEF0-AFB24D48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A06A9-4180-4915-BAD2-8942D96C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656EA-E70B-49CB-89F6-7213CF22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027-C3CC-4690-A01A-75181AB4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E66-E7AF-4103-99B3-465EBB0F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AB9-85CE-4C03-B097-CCD3AE6A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C33-1199-409E-A2B8-D43747A6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FDB-F2DC-4084-B2E2-0F98C1F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C72-28DE-46A2-BF0D-F82051CF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0B9-FCDC-4641-9968-E7B8789C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E648-5337-47F7-92DC-FFF211BEA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2F8-AF2C-47BB-B59B-CDB07F5CB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l-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Pea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response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terions for becoming a juror have changed, once jurors were witness’s who already knew the facts of a case but now jurors are suppose to know nothing about a case before t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rt:activity::______: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te:bland::color: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 Ke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teria for becoming a juror have changed. Once jurors were witnesses who already knew the facts of a case, but now jurors are supposed to know nothing about a case before t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21:09Z</dcterms:created>
  <dc:creator>student</dc:creator>
  <dc:description/>
  <dc:language>en-US</dc:language>
  <cp:lastModifiedBy>Angie McCall</cp:lastModifiedBy>
  <dcterms:modified xsi:type="dcterms:W3CDTF">2011-09-26T19:58:49Z</dcterms:modified>
  <cp:revision>3</cp:revision>
  <dc:subject/>
  <dc:title>English</dc:title>
</cp:coreProperties>
</file>